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dt" idx="7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ftr" idx="7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 type="sldNum" idx="7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2965-5FA0-4B3F-A77A-083A6049B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15F8-7664-4C19-A95A-A3C4883ED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5A87-6C3B-4A2A-A332-22069CBFE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EE49-1D41-4C52-9869-DD4E13BE8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9AB9-1C9C-423D-A1CB-400024950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613D-F778-4648-8264-737495DFB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F88F-B6F9-4D65-A805-3DF0A85BE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B97C-E727-4391-BE9F-9B54449A2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9A1A-8861-4371-820C-A2480E14D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4DA7-1E01-4C94-8356-639544023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F58CA-0067-4973-A498-BE2223DE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6EB79-AD9C-4779-8C57-DB4833F1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FDECA8-2F1D-4EFA-966E-26B52E9F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4F8B08-7D47-4383-8039-17CFAF10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9A7005-9F36-4486-97B3-A1F11EB6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0BEC45-E84D-4449-B380-D40DC448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3324CB-CB71-4F7D-A05C-329B36B4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087077-08AB-427D-B356-27A0B12F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E72363-55B6-4795-B9F4-80A19850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F35850-3906-45D4-A8A0-A38851A6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825C9D-3DDB-46E6-85FA-05A8CCFA3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6C17E1-35E6-4FCF-A576-906288881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DCE08-91A9-4386-BD96-7AA274B8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2DA66A-70B4-4047-A82D-C4901918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EA53F0-B379-48CB-83E2-2AF984C7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E66783-0FCF-49FC-BD37-412F5442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07D606-8556-4700-BDAA-2C70D306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DD3B44-D797-4F37-96DE-9A73C00C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4D19D4-4064-4F11-9884-2CB218BF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428704-F127-42E6-8F51-D4814F98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99839D-1348-413D-81BD-65FD5227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8A5C41-E3A8-4727-B34A-ACCF80F8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C01F6B-EEE8-4D78-8B09-AC6F04F59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7D309-D665-4881-BEDD-168301A1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80F0BC-94F7-4EAD-A082-4AD6A1BE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E3C364-396F-4C8D-B84E-D011FD0A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B421435-902B-487D-8B9E-9EBA8E35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BCF2A65-3F68-4F7C-8EA4-BA508644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D4A6BBC-BE4C-4FB1-9A07-CFC5D812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3689B94-1328-403E-829C-B5D89801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3FBFE8-0B38-4E87-A2F8-69A3A053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2DF565-0288-4D98-986E-0E7B6142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7264C2-175B-4B05-8A8B-92E9E1DA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231A31-CEA9-4C1A-8CB1-153DF4D4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2458-90CD-4109-B1E4-48106983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4346A7C-613C-41F5-880E-30739488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A6DC14-C51D-4BE6-821F-E47C14810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A8DD0F-541D-484D-BE7E-7248175F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9C1A21-8D9A-465E-AB90-8B6FCB8C9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795563-D2D1-4E05-9110-109EB4C3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C6F6DA-2587-467D-B206-64C7FA75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AEC852-FA0E-4D1F-BE54-822B166F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F6D52A-6ACA-4758-A806-3E870B88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41D338-1C68-4EE3-B66B-819A3655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741DE9-1634-4135-BBFB-87960078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AA57-D95E-4CE0-BDE6-344A61F9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D6F6AF-E00D-4E61-AA31-473E4466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A1D738-89FD-4639-8BC8-A2856E48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D0E546-F54F-4931-ADEF-32204E5F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076DB3-0566-49D4-8410-5B3FA126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E3280D-212D-42CF-A073-B22C63919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65D28B1-3C9B-43F8-A62E-39723B7F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A6CBB58-2638-44D0-B27F-3B7D6EC0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1DDD633-8D17-4A85-9898-617BC639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86717E2-C88D-483B-AD69-E1801997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74B3AF2-8AFA-491F-8D52-0203CE56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1667-80BD-4956-A7F9-A305E68B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4FBFC85-E3B6-4B3A-BAFF-3125F8FF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4993AC8-A717-470C-B626-BB7CC060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98F4A5B-70DB-4C55-AE5F-707A8886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CD34420-9358-4FC0-AFAB-E4FBFBE3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C67C486-A4C3-48E0-B3A3-D942C88A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9F545C7-944A-4A99-BFDF-B9935B449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3445F2C-F78A-4E14-9A2E-DEE0C210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5B8D973-2D49-49BC-A748-C3FCB920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C053DBC-E8D0-4711-BCA6-BCDD36DD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B2C3ECD-3185-42D7-8461-62976911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5E55-45DE-4F75-917C-A4782643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906EB9E-8ADA-4F6A-85E5-8693D939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2A74153-F59B-4661-9FC3-6CAF91D8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D71E466-5C4A-4E8D-945A-D265EF24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0FB1073-5F45-4211-90B7-41B76745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F855AB4-00A0-43C9-BC10-DDE272AE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A6D45A9-784F-408B-9BE2-2D2CBFBF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76C70AD-C972-4126-BE4B-D198B61B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71CFB2D-358F-4674-8DFB-1BDF07DDA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2F6CB6A-98C0-4152-B4BA-E28C6B2D1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9CFEE49-266A-4F4E-A834-DEFC2C8F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7443-B9BC-42DB-A048-C8C35B2A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E1B8656-A727-4ACE-A0DB-145C4973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7405C60-A226-4DFA-BA3D-56AC9352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4A10414-F5F1-4C84-B8B3-BF120CEC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F0F3F50-F38C-4687-81FB-D10FB254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5B00AFD-8A93-4CBB-B82A-F2E46B3C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D2259E2-7088-4211-ADE2-27B0B69D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535F853-CDDA-4B52-AE89-8CDAC2F1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3A90C1A-C4C1-4CDB-B5AB-701C9E57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77CCA47-0FD1-46EA-823F-4C6B0505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B552C12-1CE5-46E1-965E-0E55E62DA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9678-4878-4CDD-952B-2D786455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8417D7F-4424-4EE5-B2DD-0FDA3AC5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190DF64-1FE4-4B05-B051-F588E902C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9736CEC-11FF-497B-9C96-C4557EDB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4329971-1177-4007-80D1-54C3E7C1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63F5398-4638-406E-A544-0FEB33B4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3C0D069-240F-431F-8353-2420597D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8B76FAB-B765-4B6A-ADF8-19958219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8908B62-E339-489A-9C92-3F72CBDD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F4F5240-B02D-4FF2-86D0-B913BE0B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DB5E6B1-85AA-4154-ADF7-DF4D447D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4F5F-F137-490A-B016-AC135A70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4144E9D-1472-4CD2-B00E-26884488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940F999-7C53-4CB8-964F-8926B5BE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46033A9-30F1-465D-BC9A-360E0D99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B8735DD-D14F-400E-BC5B-7F80816BB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C1E1D4B-60B0-45B9-99D7-BA8121C5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8549077-5F4C-400F-9E3D-7C960944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777CD3E-80D1-49B9-A434-8A9E354C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AFF4C86-0F59-4980-8DD9-9C1F4D69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D11CAC5-DAAC-4037-9EF7-B76F46C0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69BD66B-447C-45AC-B04D-6E563F15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D0F26-D895-462B-976E-CC065870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ED32-0030-4E9E-AE96-F32AA941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C2F579E-6411-47D9-A3AE-D27BA2BD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E93DBEB-F437-445D-9E30-DB443EE0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8ABCEA3-53DC-4684-B3BA-8B81F186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7E30B67-BEA6-4AB2-B0AF-C52DD15F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CD6F5D2-0424-4427-9276-E660BCF4D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04C33E1-D2CF-4B6B-A4D3-A1EB9BA3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4C42CB8-EB8C-4386-A297-217823DE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EE857D4-0E7D-49A0-959E-4285E820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E3EB78C-0F77-469F-8676-0FD71B67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C615716-2E60-41FF-B8D8-6C4E8622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E812-C53A-4C9B-9F53-89C97528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A1A33DB-B36D-49CC-9E3E-BACAF078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7D630B5-F588-4823-9D4E-ECBAF1E0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B453879-A94E-4F4F-9BDF-2CD5D11B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76BD978-C47A-4FA9-BE0C-5C7859E9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5779582-1D4B-47F2-9985-673AA932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48991A4-630E-4945-BC4B-13398E485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7955544-C6D1-482A-A3D1-EFE47B8DE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D9FF24A-61FC-4D45-AE62-2C1AFBF8F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1F3038F-F361-4412-BC1E-5E7DA99E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EA27EC1-0BCC-465E-BB71-9A8088C6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F509-94DC-470A-A3EA-324DE600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9425C6B-2FAC-45F2-8C84-0A2F8CA0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82AEDDE-DED6-4A67-90B4-677E2A2C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E0F644D-9F59-4B56-A85D-547EFB04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CAD97BD-B4A9-406D-8D1F-341AAC3C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4D1FD77-2830-49FF-A4AC-5E690C0E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C6EC342-DFBC-4E6C-B525-4494DF04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6EB9B05-07B7-4D0C-BF7A-4F167E09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10DFB13-B7CD-4305-9898-2D0B8E25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FD9FE7D-93DD-4102-9077-D51BA15C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ACADF12-A32D-4DA6-B19A-7AFC9EBF4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3771-FABB-4A14-A6EC-D31E9CE1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0CB2965-A16A-4B88-A98D-46A0A7EF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F3BCF21-CD11-459F-BC73-B408205F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D71EEB9-760B-4E71-80FE-43C27AAE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57723A6-D14B-445A-B834-563F832C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80FDD04-4EA7-480A-A5D3-81A5EBF6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0F7E26E-A49E-41B5-9BEC-3F84DE6F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6B8815F-188E-433F-87D0-585FDE82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D70E80A-794E-492F-A61A-821B64C0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54A1636-EDB2-4BD2-80E1-4EE28780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26F26DD-D2C7-4221-A663-F2CFA181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666D-116E-4E50-81B3-4ACF8892D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834B2D2-F47C-4A30-A4C0-97963F19D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143818E-36DB-476E-A1B5-9967409A6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28A9BF0-0504-4B98-B19C-1E8C1187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04EDCDD-4D5C-42E6-94B9-9D41DEC8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A39672A-7461-4A85-ABEC-7AF142A2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5713388-FA47-4ECD-A272-1C420085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ACDF6B0-1C8C-443E-9F70-791E6901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0D0DE39-601D-43FF-A401-D78E5FD9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02782DB-DF84-47A3-98E7-1F556CAE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3DD14CB-1E84-40CE-B80B-8BDB2500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043BB2-F3F6-4084-9DB9-89E13B1A7956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42B72BC-7925-4357-90AB-5EBAE840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B87EC77-D1D2-4B79-AEE6-2F082D9E6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9C75C7A-1A9B-4BB6-A065-085F2B3FF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B8B8256-5F94-4227-80E9-13648D04F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C2FC60C-B724-495C-AEA3-97760028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25A2A59-73FF-4479-992F-41C2E1A4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B5CD463-4D9F-429E-B622-779BC3EA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5FDB9B4-90AB-4C58-A69A-1DE444F8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0E5BE09-7015-4AD9-95D4-41420FA8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D8F0A4F-D7D8-4E8E-847D-F848F5A3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942107-1402-4DBC-9EF0-ECA3EED3A64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368667C-51AF-4CC5-ADE2-5038ED28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3FCA552-C2FC-4304-A94E-85914D74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2D4C591-748C-4A32-9C89-81E6B37B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29CA9EB-D9F1-4F99-8507-87BE2BA73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60D6E95-A8D1-4C2F-A51F-0434D2FE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35B2AA5-77BD-4502-8389-3DD9FE18F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37AEB62-D968-468F-B459-A2A366D5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F52D712-6613-45B8-914D-C1EB9ADE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D7A222A-6B6B-4851-A243-ED63AABA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C545551-1EF9-4EDD-BF64-9441C958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499161-2852-4DF6-AAF1-36BF4CFCCDB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F3C7844-57B8-49B7-A67B-6EBDD69C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81ABE3D-1720-4363-AA34-7FA28281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94CEC8B-E8E4-4B46-9926-BB4BF6B9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AAB4BDC-9F7E-4314-9F76-8D9CCB81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97FBC28-D5D1-4646-B6E2-76161712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86A6328-6C34-4D96-B4D2-8A7D671E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99A9EAD-5EB4-4B72-AAD6-2B631248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0BBC5F1-00EF-4B6E-B5E0-A3114175D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9CEBF2F-A10E-4D6C-8C99-3A35FC93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4524EFF-0536-44B5-AEBF-C8C5104B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6C7703-A563-43A4-B887-AF40DA4BF897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62D1E9F-9D17-4C0C-ADC6-20240679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F197197-4B5C-475C-B336-CD61E6A7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67CEC67-0B08-4B39-B825-A24EBEA3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6A82C0E-8407-4693-B972-AE3736CA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1A9114F-DB0A-4AC8-95E2-374EDB1A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5670F91-230D-497D-A448-9915DFA1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D6DF5B6-9446-4413-8B05-BEFCADAD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18DEEBE-3036-4410-BBD6-7FBA20700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B39E5C2-BC07-4E34-9E00-C7C8AC61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E41970-1AE4-44F1-9AA9-F6962F92D9B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0E406C-8FC3-485A-8517-2680031E74F7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3B4ACF-E263-4F3F-9F64-2166360B4D64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4E0848-BA9B-4B98-814D-67E6F34B143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547EDE-6372-4EDE-B669-41749BEA9ADA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823868-894C-4DE6-9297-E1E1284C2E9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B2EEE1-E106-47A5-A26C-685A571D8D9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E8A2E2-21B9-4AC9-937C-66BD0559C1E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4232BF-91C8-4B3D-8ED5-5EA4234E128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580B44-A169-4862-9DB6-2F582FC85F6A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2AA2CD-C13A-4435-83FD-B4D17EFBB696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1EE550-B550-4EE7-9BF7-8F37F8E356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F5464-27DA-4A62-B5A5-86AA06C5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1B3CB5-6D9B-4D01-8423-658E1B52E777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BB6D2F-B0BB-436C-8119-D657809591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D04BCC-FE39-42F2-9EE0-E976FCAF94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DD1D2E-1031-47F9-B4FE-50B2A4A7100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BB638E-026E-451B-B9E6-6CB5E85E108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739008-C6B6-4B4D-A915-9F4A01162F0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4A3888-81DF-45E7-9E09-4ED29536A70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6C6085-BE2C-4B8F-A030-A2465C7F52C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F93630-DF25-4043-B731-45FBFEC7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2C3B79-1B8A-4418-A3BD-D58E342E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34BFDF-F168-48E3-93F7-CEB6B7B6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5F827-4318-4293-B2FA-B0A26608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15DC95-619E-4500-859C-1577BC6A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6BE9B6-2078-4B10-895F-D51DEC1D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EF075A-A1AB-4113-BEC7-4C39A9DC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731200-C859-42BE-8B4C-795A342D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AADA37-3F92-458B-8EE3-ACB5EDE9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3ECF42-318A-49D0-B188-D24E200C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12BD09-4A1C-4188-BCB2-0D2CF696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DA66E7-845F-4C1E-B07E-A4397DEE2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961BC4-4134-4D91-890B-40C44835A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399D6D-0F12-40A8-AADD-A6F947B5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E0C84-8B55-4A93-8B19-F19CCA32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AD71E7-1C13-45BB-9128-090A5FD3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4AF53F-1723-4B5E-8646-3795FE2E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F018E2-FEF9-49AC-8253-041B740B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E1F49C-CC78-4887-B7E8-76592F70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2DAAD0-3396-4E7D-B53E-FE9CF5CB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908FDF-AAEA-4FB2-8879-46381534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B2CA8F-6905-432A-A7A0-E94237CB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752187-1615-4AEB-9E69-7E8A9CAB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3636A3-9442-4E29-BDB0-70AD6F2F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F465BF-E498-465F-B819-9CC698E3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21F0E-394E-465D-AF8D-B4D37658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665395-B496-4396-8B69-75DD4B5E4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829F37-7587-459B-A90F-341C945EA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9BF335-3AF6-4D4E-A53E-4C4F5753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AE8439-C002-4BBC-B4CC-37D21765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615B0F-8A9F-4626-9380-1984E6F6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1F750D-9CE7-4F09-BC68-5BE42DB1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F61C6C-F5FA-4730-A89F-C810D04E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5A4C8A-FEF0-4176-94A0-6FA00794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2DA457-A364-483B-94EF-7A83BBF4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8C5F19-4F6A-4850-B6D6-C5F0BE00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03E0D-CEC1-40B5-AADB-370BA00F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2D39D3-F886-45FD-B5BE-FAEAFB2E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44BF6D-125F-4D05-A18B-0F2F92DED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09EE0F-5EBE-481D-88D7-9A55713FA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87368C-5E2B-4AEE-9307-5DC4367B1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1096B3-9408-48A1-ACD1-B92715B2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A3BC30-1994-42CB-861A-77124750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730D6E-6FB8-4BA8-A100-3DC19D04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BD5B36-7592-4D2D-8565-DA222559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6A8DE1-A6E4-47D3-989A-60E77C7B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2DAC85-4931-4151-9987-DA18E7C8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D5AE6-B7E7-4FBE-BCC5-1EC81C97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C43EBF-9EDD-461A-A573-05039B4E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67F944-5D98-4266-AE1B-174048B3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3DF36D-DD17-4F49-B1E0-846F8098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C74893-2E3E-4471-B6FB-9A5D2A2A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2CA1F6-FD3D-4363-BA82-B14D4CAD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79B2C8-A9F9-4320-98BD-3B31A38E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04D96E-D45B-4A9A-A458-2AF2F115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8A76DD-A7B7-4862-B1DC-C7E2DF57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553E62-A7B2-44E7-89F7-367995CA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C1E790-1840-480C-8C3D-3AD92112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92B29-61F9-4D86-83C9-2609A375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AAC430-1C71-4B34-9ED9-8C9F1417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95AEFD-48EB-451C-BE68-4E84E6EF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054E8A-EE6D-4B72-A18E-A1B972EE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771E15-34DB-470B-8887-2104C847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0A2C58-8343-4A49-981E-317C7ADD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F8D8E3-1811-4887-B07E-F6F6E2EF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A0D180-4A67-41CA-A481-8E0029297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9AE84A-6C4E-4D1C-8D51-C0230591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EFA11B-9FF1-4883-B048-B027448D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CC462B-6B6C-4082-B71C-3DCFD4FD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1-</a:t>
            </a:r>
            <a:fld id="{87484242-8C13-4FBE-BEC7-43B071B6F1B6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7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8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1-</a:t>
            </a:r>
            <a:fld id="{CF6BF1A9-E3E9-4BEC-B599-AA9692479FEA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29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0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31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1-</a:t>
            </a:r>
            <a:fld id="{A551CA88-0088-40D7-9351-F5B62E51DB00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ftr" idx="32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3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sldNum" idx="34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1-</a:t>
            </a:r>
            <a:fld id="{3C1D3999-7F51-41A6-81BB-5097E76632AD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ftr" idx="35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6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sldNum" idx="37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1-</a:t>
            </a:r>
            <a:fld id="{5140B313-A70A-4FDE-BBB3-1F8EA2C50991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8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9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0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1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1-</a:t>
            </a:r>
            <a:fld id="{077BA92C-923D-4F45-BE8A-D22875910C9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1-</a:t>
            </a:r>
            <a:fld id="{94B6CE57-80EF-4EAA-A109-E917D466E25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45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46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47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1-</a:t>
            </a:r>
            <a:fld id="{980CCD71-CADC-47C9-A356-D18B2B01506B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5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1-</a:t>
            </a:r>
            <a:fld id="{65673D0B-E061-4A59-99B3-61233DEBF09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5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5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5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1-</a:t>
            </a:r>
            <a:fld id="{B5D5739D-569B-4803-9746-B8F07F1FE03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5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5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5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1-</a:t>
            </a:r>
            <a:fld id="{A7EEA251-3C98-424E-88EF-E19374F269D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1-</a:t>
            </a:r>
            <a:fld id="{18F06DA8-96C1-4FCA-8E68-1CBBD339DC1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5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1-</a:t>
            </a:r>
            <a:fld id="{B66BB426-51D9-4FCA-80EF-97850DF3273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6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6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6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1-</a:t>
            </a:r>
            <a:fld id="{B9067A1F-32E2-4157-B0E8-6ADD192CEAC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dt" idx="6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 type="ftr" idx="6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 type="sldNum" idx="6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1-</a:t>
            </a:r>
            <a:fld id="{66CFCC6B-6867-4919-88D7-21C045AD6E68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6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6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6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1-</a:t>
            </a:r>
            <a:fld id="{EA7014A9-6B0D-4D38-B2FB-7634E21001F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6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7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7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1-</a:t>
            </a:r>
            <a:fld id="{228201AB-0CFF-4A25-83E3-69B9DE13CB0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013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1-</a:t>
            </a:r>
            <a:fld id="{35C2DF77-5519-4C40-B624-C21663258F5F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73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828800" y="57913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ias M. Aw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1-</a:t>
            </a:r>
            <a:fld id="{37B71531-9098-48EE-B496-F218C4F195FF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1-</a:t>
            </a:r>
            <a:fld id="{83B0ED4E-03B6-4408-ACCB-B3FB251222A5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2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1-</a:t>
            </a:r>
            <a:fld id="{B0C5C529-22CE-41A9-966A-9C3081DF7831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5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1-</a:t>
            </a:r>
            <a:fld id="{B2626574-8074-4B82-AE8B-A6BD36C1D06E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8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1-</a:t>
            </a:r>
            <a:fld id="{C8D4776A-509C-4B9B-AF5A-59894CD9C21A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0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1-</a:t>
            </a:r>
            <a:fld id="{429AAFC4-77EF-41B3-8E12-A127FD079C60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4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1-</a:t>
            </a:r>
            <a:fld id="{6AB2639D-1C70-401D-A375-9DA0228D5E62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ftr" idx="26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mazon.com/" TargetMode="External"/><Relationship Id="rId2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1-</a:t>
            </a:r>
            <a:fld id="{414ED073-3EF8-4171-BDC7-59F600A51A05}" type="slidenum">
              <a:rPr b="0" i="1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2"/>
          <p:cNvSpPr/>
          <p:nvPr/>
        </p:nvSpPr>
        <p:spPr>
          <a:xfrm>
            <a:off x="3124080" y="6245280"/>
            <a:ext cx="3353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7"/>
          <p:cNvSpPr/>
          <p:nvPr/>
        </p:nvSpPr>
        <p:spPr>
          <a:xfrm>
            <a:off x="1143000" y="2514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Garamond"/>
              </a:rPr>
              <a:t>Chapter One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Garamond"/>
              </a:rPr>
              <a:t>Understanding e-commerce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-commerce Versus E-busines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9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4653"/>
                </a:solidFill>
                <a:latin typeface="Arial"/>
              </a:rPr>
              <a:t>1-</a:t>
            </a:r>
            <a:fld id="{11F7FAA2-2356-437A-8B1F-184A50346C5F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-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Selling goods and services on the retail level with anyone, anywhere, via the Internet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Greater efficiency and effective exchange of goods and services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Exchange based upon </a:t>
            </a:r>
            <a:r>
              <a:rPr b="0" i="1" lang="en-US" sz="2000" spc="-1" strike="noStrike">
                <a:solidFill>
                  <a:srgbClr val="464653"/>
                </a:solidFill>
                <a:latin typeface="Gill Sans MT"/>
              </a:rPr>
              <a:t>transaction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 block of information exchange between the merchant and its customers via the corporate Web sit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b292ca"/>
                </a:solidFill>
                <a:uFillTx/>
                <a:latin typeface="Gill Sans MT"/>
                <a:hlinkClick r:id="rId1"/>
              </a:rPr>
              <a:t>www.amazon.co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-busines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Connecting critical business systems and constituencies directly via the Internet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-commerce and Web 2.0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3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4653"/>
                </a:solidFill>
                <a:latin typeface="Arial"/>
              </a:rPr>
              <a:t>1-</a:t>
            </a:r>
            <a:fld id="{A330DDA1-CBB5-4AE6-A726-4226F7061AFA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990720" y="11426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275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Gill Sans MT"/>
              </a:rPr>
              <a:t>web 2.0 and collaborate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Gill Sans MT"/>
              </a:rPr>
              <a:t>collaboration becomes a mutual touch point for all the stakeholder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Gill Sans MT"/>
              </a:rPr>
              <a:t>aggregating information about people, products and service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Gill Sans MT"/>
              </a:rPr>
              <a:t>reduces time spent searching resources for information, eliminates redundant dat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Gill Sans MT"/>
              </a:rPr>
              <a:t>increased relevance, delivering key information to places where it can be used effectivel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igital Convergence - digital devices communicating with one anoth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ytime, anywhere, anyone - e-commerce is available to anyone (24/7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emand for customized products and services - mass customization puts pressure on firms to handle customized requests on a mass-market scal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Business-to-Government (B2G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7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4653"/>
                </a:solidFill>
                <a:latin typeface="Arial"/>
              </a:rPr>
              <a:t>1-</a:t>
            </a:r>
            <a:fld id="{A79F0B93-FF5C-45D6-A897-C54EF0F4284D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government market is strikingly similar to B2B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uge potential for savings in $1.8 trillion federal and $1 trillion state and local expenditur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hanging the status quo in government is not so eas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Changes to employee tasks and job restructuring often create resistance 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Tax savings potential is not easily recognized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Committing to technology means constant need for upgrades and additional costs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-commerce Business Model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1" name="Footer Placeholder 6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4653"/>
                </a:solidFill>
                <a:latin typeface="Arial"/>
              </a:rPr>
              <a:t>1-</a:t>
            </a:r>
            <a:fld id="{A3209275-04D3-4225-9B52-E1F381213077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1218960" y="1599840"/>
            <a:ext cx="436068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orefront Mod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-and-Mortar Mod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uilt to Order Merchant Mod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ice Provider Mod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bscription-based Access Mod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epaid Access Mod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5506560" y="1599840"/>
            <a:ext cx="356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roker Mod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dvertiser Mod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ortal Site Mod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ree Access Mod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Virtual Mall Mod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Virtual Community Mod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fomediary Mod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ummar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6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4653"/>
                </a:solidFill>
                <a:latin typeface="Arial"/>
              </a:rPr>
              <a:t>1-</a:t>
            </a:r>
            <a:fld id="{16D50A8C-2CC6-4178-90CE-EFC5EC869C88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1950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lectronic commerce (EC) is the ability to deliver products, services, information, or payments via networks such as the Internet and the World Wide Web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1950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lectronic business connects critical business systems directly to key constituen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1950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rise of specialized Web sites and Web logs (blogs) generated opportunities to read and write on a vast array of topic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1950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ral drivers promote EC: digital convergen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1950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dvantages of EC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Learning objectives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Evolution of e-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Role of technology in e-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Internet and e-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4653"/>
                </a:solidFill>
                <a:latin typeface="Arial"/>
              </a:rPr>
              <a:t>1-</a:t>
            </a:r>
            <a:fld id="{ADF4AE95-F653-4611-8FFD-18A2BD6BC854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History of e-commer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1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4653"/>
                </a:solidFill>
                <a:latin typeface="Arial"/>
              </a:rPr>
              <a:t>1-</a:t>
            </a:r>
            <a:fld id="{74207CE6-167D-41C9-A5AB-97CFFEB939F9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457200" y="10663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History of ecommerce dates back to the year (1991) when the internet was made available for commercial purpos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web sites were allowed to use internet for business transaction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Do business electronically from virtually anywhere in the world that has a computer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n 2004 alone, e-commerce generated well over $100 billion in retail business and over $1.5 trillion business-to-business traffic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At first, the term ecommerce meant the process of execution of commercial transactions electronically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leading technologies such as Electronic Data Interchange (EDI) and Electronic Funds Transfer (EFT) were used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ONT’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5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4653"/>
                </a:solidFill>
                <a:latin typeface="Arial"/>
              </a:rPr>
              <a:t>1-</a:t>
            </a:r>
            <a:fld id="{53900A2F-B197-4E50-91F9-4B438758E3D1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ctors that impacted e-commer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urity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wrong usage of credit informatio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rivacy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security protocol such as HTTP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he Dot Com er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9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4653"/>
                </a:solidFill>
                <a:latin typeface="Arial"/>
              </a:rPr>
              <a:t>1-</a:t>
            </a:r>
            <a:fld id="{C6F95C81-3DDB-471E-B1F5-7F53D2B3A4A8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"brick and mortar" retailers recognized the advantages of electronic 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first generation e-commerce portal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In spite of ‘dotcom’ burst, the ecommerce sales continued to grow in the next few year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customers prefer e-commerce over tele ord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day’s Internet promotes individualism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se: </a:t>
            </a:r>
            <a:r>
              <a:rPr b="1" lang="en-IN" sz="2000" spc="-1" strike="noStrike">
                <a:solidFill>
                  <a:srgbClr val="000000"/>
                </a:solidFill>
                <a:latin typeface="Gill Sans MT"/>
              </a:rPr>
              <a:t>Amazon.com: synonymous with e-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Gill Sans MT"/>
              </a:rPr>
              <a:t>Case: Dell: An evolutionary e-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hat is e-commer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3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4653"/>
                </a:solidFill>
                <a:latin typeface="Arial"/>
              </a:rPr>
              <a:t>1-</a:t>
            </a:r>
            <a:fld id="{DDEA926A-4584-4236-86ED-41BF9FED2B94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E-commerce is a short version of the term Electronic 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transactions related to online buying and selling of products or servi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done using electronic systems such as the Internet and other computer network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penetration and spread of the internet has fuelled e-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Examples os e-commerce are electronic funds transfer, supply chain management, Internet marketing, online transaction processing, electronic data interchange (EDI), inventory management systems, and automated data collection syste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definition of e-commerce in modern the modern times implies that it typically uses the World Wide Web at least at any point in the transaction's lifecyc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Online retailers are sometimes known as e-tail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online retail is sometimes known as e-tai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ypes of e-commer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7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4653"/>
                </a:solidFill>
                <a:latin typeface="Arial"/>
              </a:rPr>
              <a:t>1-</a:t>
            </a:r>
            <a:fld id="{2217E51C-B8F9-43D6-ACFE-87B5A224E1E1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2B: </a:t>
            </a: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E-commerce that is conducted between businesses is referred to as Business-to-busines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(1) open to the entire public or (2) limited to a group of businesses who have been part of the specific group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business-to-consumer </a:t>
            </a:r>
            <a:r>
              <a:rPr b="1" lang="en-IN" sz="2600" spc="-1" strike="noStrike">
                <a:solidFill>
                  <a:srgbClr val="000000"/>
                </a:solidFill>
                <a:latin typeface="Gill Sans MT"/>
              </a:rPr>
              <a:t>(B2C)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business-to-government </a:t>
            </a:r>
            <a:r>
              <a:rPr b="1" lang="en-IN" sz="2600" spc="-1" strike="noStrike">
                <a:solidFill>
                  <a:srgbClr val="000000"/>
                </a:solidFill>
                <a:latin typeface="Gill Sans MT"/>
              </a:rPr>
              <a:t>(B2G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All the forms of e-commerce include following steps. i) account acquisition, ii) product discovery through search and browse, iii) price negotiation, iv) payment, and v) product delivery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In some cases, dispute resolution and customer services may also exist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hanging times in e-commer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1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4653"/>
                </a:solidFill>
                <a:latin typeface="Arial"/>
              </a:rPr>
              <a:t>1-</a:t>
            </a:r>
            <a:fld id="{719B6766-50E2-47BE-B1FD-AFCD684F911F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464653"/>
                </a:solidFill>
                <a:latin typeface="Gill Sans MT"/>
              </a:rPr>
              <a:t>Electronic Data Interchange (EDI) and Electronic Funds Transfer (EFT).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464653"/>
                </a:solidFill>
                <a:latin typeface="Gill Sans MT"/>
              </a:rPr>
              <a:t>Automated Teller Machines (ATMs)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464653"/>
                </a:solidFill>
                <a:latin typeface="Gill Sans MT"/>
              </a:rPr>
              <a:t>growth and acceptance of credit cards, and telephone banking became part of e-commerce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Broadband connections to homes is fulfilling the ultimate mission of e-commerce.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E-mail is now the very connectivity of e-commerce.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Bar code scanning is on the way out, replaced by sophisticated biometric technology.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Legal downloading of music, video, and other digital products via the Web is increasing.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Big businesses, as well as small- and medium-sized firms, can afford to develop a Web presence quickly, reliably, and at an affordable cost.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E-commerce has gone international.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-commerce componen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5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4653"/>
                </a:solidFill>
                <a:latin typeface="Arial"/>
              </a:rPr>
              <a:t>1-</a:t>
            </a:r>
            <a:fld id="{0551F8AA-53DA-49EE-BD19-0E890BA69F92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mportant component </a:t>
            </a: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of e-commerce based firm is the websi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website should have technology that will make it easier for its customers to navigat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site should offer every single feature necessary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fully-functional and sustainable ecommerce web sit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stable server for hosting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provide customer specific servic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technology partners who constantly upgrade the features as well as technology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help business partners such as logistics partners and suppliers to share and exchange business data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Alternatively SaaS can be used for running these services (reduce cos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2T00:21:47Z</dcterms:created>
  <dc:creator>RGPlatt</dc:creator>
  <dc:description/>
  <dc:language>en-US</dc:language>
  <cp:lastModifiedBy>Sanjay</cp:lastModifiedBy>
  <dcterms:modified xsi:type="dcterms:W3CDTF">2013-02-27T18:36:19Z</dcterms:modified>
  <cp:revision>261</cp:revision>
  <dc:subject>Awad 3rd ed</dc:subject>
  <dc:title>The Dawn of a Maturing Indus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